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257D-83D4-4A06-A751-A21DB982C8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A58-338D-4D7F-B82E-5B18FA581F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A1B-9D31-4DC6-BBA4-16E931C7EE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7088-0EB9-4F87-9024-B1AC7360DE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541-C4EB-4C5C-9868-224F3930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B73-4FF6-4CF0-8D3D-E7CBB5D4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FFB-15A5-42CC-A621-57D5A121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15A-DAF6-4E0D-92D7-EBD8625C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C15-C310-40FB-86AD-24E5587C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98F-4DDD-4D7A-ABB7-A877FD2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979-442D-49CA-AF64-F88C14D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CD0-1CA4-4E02-B649-CBAFB6D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6F9-03BE-46A4-AE23-0B309A0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745-DA4D-42E6-B09C-4CD8C78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484-6C80-46DB-BE63-6DAD00F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E7D-ADDF-40A2-9A61-94E824B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B35-DA9B-48AF-90AB-CE13C0DB61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276720" y="2438280"/>
            <a:ext cx="55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.3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综合实践活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4067280" y="3357720"/>
            <a:ext cx="388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26920" y="1197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扇形统计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116000" y="2421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填写统计表（如下图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216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形标注 10"/>
          <p:cNvSpPr/>
          <p:nvPr/>
        </p:nvSpPr>
        <p:spPr>
          <a:xfrm>
            <a:off x="3419640" y="2133720"/>
            <a:ext cx="3384360" cy="1800000"/>
          </a:xfrm>
          <a:prstGeom prst="wedgeEllipseCallout">
            <a:avLst>
              <a:gd name="adj1" fmla="val -50925"/>
              <a:gd name="adj2" fmla="val 65115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一想，如何利用其它组整理的数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971640" y="2349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将学生的平均身高制成统计图。三种图你会选哪种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116000" y="458136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折线统计图可以吗？为什么不选择扇形统计图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619280" y="3716280"/>
            <a:ext cx="208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形统计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900000" y="2276640"/>
            <a:ext cx="431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并回答以下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042920" y="28224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来全班同学 的平均身高增加了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042920" y="3716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班上有多少个同学的身高不低于全班的平均身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7840" y="4767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低于平均身高的人数占全班人数的百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826920" y="240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我们想把全班同学按现在的身高分成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，你们会怎么分？每组的统计结果又怎样表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71640" y="378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按从最低到最高的身高分出相等的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段，然后统计出每段中的人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7158240" cy="2158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826920" y="1989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统计表填完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763640" y="27082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×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场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第四季度空调销售情况统计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11640" y="501984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732720" y="5013360"/>
            <a:ext cx="93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732720" y="4149720"/>
            <a:ext cx="93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35640" y="414972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916360" y="4149720"/>
            <a:ext cx="93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87640" y="458136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763640" y="2124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×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猪场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第一季度生猪出栏量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452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213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×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猪场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第一季度生猪出栏量统计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80360" cy="2521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635280" y="400536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564000" y="436572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716360" y="3645000"/>
            <a:ext cx="935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788000" y="4365720"/>
            <a:ext cx="93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564000" y="480384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788000" y="4803840"/>
            <a:ext cx="93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227640" y="3573360"/>
            <a:ext cx="9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300720" y="4005360"/>
            <a:ext cx="935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227640" y="4365720"/>
            <a:ext cx="1224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7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227640" y="4797360"/>
            <a:ext cx="1224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8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6920" y="21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下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统计图，说说自己的发现和建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763640" y="2924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南村、北村土地使用情况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39288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26920" y="21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下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统计图，说说自己的发现和建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763640" y="2924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南村、北村土地使用情况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39288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2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1052640" y="3801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124000" y="191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了解统计表和三种统计图的特点，并能根据实际需要选择合适的统计图来表示数据和反映情况，能利用统计图的特征获取有用的信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124000" y="398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数据对决策的作用，体会统计在现实生活中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900000" y="220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统计图不但可以表示一定数量的多少，而且能够清楚地表示出数量增减变化的情况；都要用一个单位长度表示一定数量的统计图是（     ）统计图和（    ）统计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00000" y="220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题分析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只要是理解条形统计图和折线统计图的特征，条形统计图的优势是能很快看出数据的多少，而折线统计图更趋向于数据的增减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00000" y="220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）统计图不但可以表示一定数量的多少，而且能够清楚地表示出数量增减变化的情况；都要用一个单位长度表示一定数量的统计图是（       ）统计图和（      ）统计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187280" y="220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折 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356000" y="4202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折 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258920" y="4221000"/>
            <a:ext cx="9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908000" y="2349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南村、北村农业产值统计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547236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826920" y="2060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过这节课的学习，你有什么收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7" descr="男孩-1.gif"/>
          <p:cNvPicPr/>
          <p:nvPr/>
        </p:nvPicPr>
        <p:blipFill>
          <a:blip r:embed="rId1"/>
          <a:stretch/>
        </p:blipFill>
        <p:spPr>
          <a:xfrm>
            <a:off x="6659640" y="4724280"/>
            <a:ext cx="129708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9"/>
          <p:cNvGrpSpPr/>
          <p:nvPr/>
        </p:nvGrpSpPr>
        <p:grpSpPr>
          <a:xfrm>
            <a:off x="1619280" y="2924280"/>
            <a:ext cx="5400720" cy="2233440"/>
            <a:chOff x="1619280" y="2924280"/>
            <a:chExt cx="5400720" cy="2233440"/>
          </a:xfrm>
        </p:grpSpPr>
        <p:sp>
          <p:nvSpPr>
            <p:cNvPr id="175" name="竖卷形 12"/>
            <p:cNvSpPr/>
            <p:nvPr/>
          </p:nvSpPr>
          <p:spPr>
            <a:xfrm rot="5400000">
              <a:off x="3202920" y="1340280"/>
              <a:ext cx="2233440" cy="5400720"/>
            </a:xfrm>
            <a:prstGeom prst="verticalScroll">
              <a:avLst>
                <a:gd name="adj" fmla="val 12500"/>
              </a:avLst>
            </a:prstGeom>
            <a:solidFill>
              <a:srgbClr val="ffc000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267280" y="3572640"/>
              <a:ext cx="4176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收集和整理数据中要根据实际情况选择相应的统计方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引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7640" y="5157720"/>
            <a:ext cx="424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均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116000" y="4292640"/>
            <a:ext cx="3240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怎样求取平均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16000" y="2421000"/>
            <a:ext cx="633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你一般用什么方法收集和整理数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619280" y="3284640"/>
            <a:ext cx="626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般用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统计表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统计图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集和整理数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引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4360" y="2205000"/>
            <a:ext cx="4248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学过哪几种统计图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332000" y="2924280"/>
            <a:ext cx="611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形统计图、折线统计图、扇形统计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3660840"/>
            <a:ext cx="720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三种统计图各有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437000"/>
            <a:ext cx="1657440" cy="424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形统计图：便于了解数量大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80000" y="4437000"/>
            <a:ext cx="1655640" cy="424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折线统计图：便于反映数量变化趋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156360" y="4437000"/>
            <a:ext cx="1800360" cy="424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统计图：便于反映部分与整体关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07880" y="1785960"/>
            <a:ext cx="4054680" cy="46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572000" y="2365200"/>
            <a:ext cx="28796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图片，看看他们说了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43280" y="4221000"/>
            <a:ext cx="2881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讨论的话题跟我们的哪些知识点有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71640" y="2205000"/>
            <a:ext cx="3168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活动一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高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187280" y="299736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搜集资料，分组将组内各位同学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中每一年的身高数据进行收集、整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187280" y="4508640"/>
            <a:ext cx="532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分别填入下面的表格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120000" cy="381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900000" y="2637000"/>
            <a:ext cx="72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计算组内同学各年级时的平均身高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71640" y="364500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方法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内同学身高总和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数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身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71640" y="249228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借鉴刚才的方法，汇总全班的身高资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042920" y="400536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工合作，计算全班同学在每个年级时的平均身高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0:36:49Z</dcterms:modified>
  <cp:revision>509</cp:revision>
  <dc:subject/>
  <dc:title>幻灯片 1</dc:title>
</cp:coreProperties>
</file>